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870-755B-432C-A27C-D314B6E0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E31-1621-470E-980A-CB97564A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3BB-B543-49A7-9433-2B63B5E7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3D2-FE77-419B-A952-CF29D496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991-A5F3-4E57-AEE4-C1CEF4CD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897-91AC-4897-A006-73D6D313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0D5-C45A-45A2-A3E6-3D15C3E2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496-A3BC-49C4-9835-7AF3B89A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36D-0672-48A1-88BF-BDD12DBF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F49-6699-418B-AD2C-BF76B24C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6C0-7A0C-463B-BF06-6370974F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6B2-F7EE-43E5-9B59-FAB8AF74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2CB-9FF7-4C4D-B0B9-8DF61B6BA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6006960" cy="45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6:21:59Z</dcterms:created>
  <dc:creator>leypoldt</dc:creator>
  <dc:description/>
  <dc:language>en-US</dc:language>
  <cp:lastModifiedBy>leypoldt</cp:lastModifiedBy>
  <dcterms:modified xsi:type="dcterms:W3CDTF">2009-03-24T16:23:13Z</dcterms:modified>
  <cp:revision>1</cp:revision>
  <dc:subject/>
  <dc:title>Slide 1</dc:title>
</cp:coreProperties>
</file>